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C1D-F086-404C-93E2-036B2112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56A-7CD7-4078-A781-AE9EA19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B57-806B-4FBB-B245-BA8CB124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5F2-50DF-4315-B8CA-EE656D0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6D5-0276-433E-825A-A58D644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8FF-94A3-4E1B-91E4-EE52D0F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DF0-90AF-4AFE-BDC9-2258B36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772-DC5A-474D-AFA3-D99F3E9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379-2D06-4348-8CA2-8045A872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D05-B380-43A1-A974-7E1DC07F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0ED-B09E-4DCE-AE75-27556EE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590-5013-461A-9A0A-8601465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DAF-E2B2-45B6-B095-4FEC7095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ton Rowan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Portfoli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graphy 200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photo using the reflection from a mi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19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477120" cy="517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1828800"/>
            <a:ext cx="220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y emulation role I emulated Ralph Meatyard by putting a mask on my buddy and having him do funny 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27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Lisa Harrylocks hand holding a strawberry I really like this picture because her nails are painted the same color as the fr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609480" y="380880"/>
            <a:ext cx="3962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600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Ligh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G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8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inting with a flash to show background while retaining the sta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0199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lucky water drop splash picture. it Kind of reminds me of the cool aid man for som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818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shot I put a feather, business card and 5 dollar bill in between glass. And the print paper and on top I put a pen cough drop and nail clipp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4704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9920" y="15238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of moving bicycle wheel to show shutter speed in the partne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79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38:25Z</dcterms:created>
  <dc:creator>BAL_LMROWAN</dc:creator>
  <dc:description/>
  <dc:language>en-US</dc:language>
  <cp:lastModifiedBy>C</cp:lastModifiedBy>
  <dcterms:modified xsi:type="dcterms:W3CDTF">2009-05-22T21:46:40Z</dcterms:modified>
  <cp:revision>6</cp:revision>
  <dc:subject/>
  <dc:title>Slide 1</dc:title>
</cp:coreProperties>
</file>